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23.png" ContentType="image/png"/>
  <Override PartName="/ppt/media/image55.jpeg" ContentType="image/jpeg"/>
  <Override PartName="/ppt/media/image18.gif" ContentType="image/gif"/>
  <Override PartName="/ppt/media/image5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19.jpeg" ContentType="image/jpe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28.png" ContentType="image/png"/>
  <Override PartName="/ppt/media/image10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51.png" ContentType="image/png"/>
  <Override PartName="/ppt/media/image49.png" ContentType="image/png"/>
  <Override PartName="/ppt/media/image56.gif" ContentType="image/gif"/>
  <Override PartName="/ppt/media/image52.png" ContentType="image/png"/>
  <Override PartName="/ppt/media/image35.png" ContentType="image/png"/>
  <Override PartName="/ppt/media/image33.png" ContentType="image/png"/>
  <Override PartName="/ppt/media/image54.png" ContentType="image/png"/>
  <Override PartName="/ppt/media/image14.jpeg" ContentType="image/jpeg"/>
  <Override PartName="/ppt/media/image3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31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8.png" ContentType="image/png"/>
  <Override PartName="/ppt/media/image38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3F49-B70B-4354-A329-5AF66435617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35EC-26F0-473F-82BC-4B1D455B7B1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K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E28D-9C7B-414B-91B0-86BF1E0D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7BE-3DF6-4641-88BD-0437825B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4F86-DB82-49E3-9957-932140DC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36E8-35B1-468B-BE7B-20FC2CFE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3471-3847-4F35-B867-97692799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321-D91F-4C63-AFC0-C8F53C14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5E6B-7007-4217-835C-C9CD893A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5B1C-2226-47F5-B428-0936E2EF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E617-B158-4408-AD15-D82B535C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792-8E56-4DF0-BCD9-F435E886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E606-4C92-43CB-87BB-99FC85BE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43B8-1F3C-4F83-8E68-8C48F4CD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A165-F2BC-481D-A737-A9B137044E2C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Ro dijagnostika periodoncijuma i zuba, stečene promene, zapaljenja i karijes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04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e3ebf1"/>
                </a:solidFill>
                <a:latin typeface="Arial"/>
              </a:rPr>
              <a:t>Prof dr Milan Mijailovi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5" descr="Leon"/>
          <p:cNvPicPr/>
          <p:nvPr/>
        </p:nvPicPr>
        <p:blipFill>
          <a:blip r:embed="rId1"/>
          <a:stretch/>
        </p:blipFill>
        <p:spPr>
          <a:xfrm>
            <a:off x="2627280" y="4005360"/>
            <a:ext cx="3960720" cy="230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2" name="Picture 6" descr="tuch"/>
          <p:cNvPicPr/>
          <p:nvPr/>
        </p:nvPicPr>
        <p:blipFill>
          <a:blip r:embed="rId2">
            <a:grayscl/>
            <a:lum contrast="36000"/>
          </a:blip>
          <a:stretch/>
        </p:blipFill>
        <p:spPr>
          <a:xfrm>
            <a:off x="4067280" y="4076640"/>
            <a:ext cx="1328760" cy="45252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53" name="Rectangle 7"/>
          <p:cNvSpPr/>
          <p:nvPr/>
        </p:nvSpPr>
        <p:spPr>
          <a:xfrm>
            <a:off x="4284720" y="638172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e3ebf1"/>
                </a:solidFill>
                <a:latin typeface="Arial"/>
              </a:rPr>
              <a:t>MM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ccff"/>
                </a:solidFill>
                <a:latin typeface="Arial"/>
              </a:rPr>
              <a:t>Karijes zuba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infektivna bolest koju karakteriše progresivna destrukcija čvrstih zubnih tkiva. Sreće se u oko 95% populacije.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Inicijalno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mikroorganizmi prisutni u plaku fermentiraju šećere (saharozu, glukozu, fruktozu) povećavajući kiselost (ispod pH 5,5) dovodeći do demineralizacije, najpre gleđ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Kl.slika   prebojavanje površine gleđi ispod plak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8"/>
          <p:cNvGrpSpPr/>
          <p:nvPr/>
        </p:nvGrpSpPr>
        <p:grpSpPr>
          <a:xfrm>
            <a:off x="1332000" y="2349360"/>
            <a:ext cx="2663640" cy="2303640"/>
            <a:chOff x="1332000" y="2349360"/>
            <a:chExt cx="2663640" cy="2303640"/>
          </a:xfrm>
        </p:grpSpPr>
        <p:sp>
          <p:nvSpPr>
            <p:cNvPr id="86" name="Rectangle 7"/>
            <p:cNvSpPr/>
            <p:nvPr/>
          </p:nvSpPr>
          <p:spPr>
            <a:xfrm>
              <a:off x="1469520" y="2349360"/>
              <a:ext cx="2400480" cy="230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7" name="Picture 5" descr="karijes%20dijagram"/>
            <p:cNvPicPr/>
            <p:nvPr/>
          </p:nvPicPr>
          <p:blipFill>
            <a:blip r:embed="rId1"/>
            <a:stretch/>
          </p:blipFill>
          <p:spPr>
            <a:xfrm>
              <a:off x="1332000" y="2442960"/>
              <a:ext cx="2663640" cy="21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Picture 9" descr="190px-Karies"/>
          <p:cNvPicPr/>
          <p:nvPr/>
        </p:nvPicPr>
        <p:blipFill>
          <a:blip r:embed="rId2"/>
          <a:stretch/>
        </p:blipFill>
        <p:spPr>
          <a:xfrm>
            <a:off x="4572000" y="2708280"/>
            <a:ext cx="2633760" cy="18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11280" y="3789000"/>
            <a:ext cx="807552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Početna lezij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stvaranjem međukristalnih prostora gleđ gubi čvrstinu, bakterije prodiru stvarajući mikroskop. a zatim i makroskop. vidljive šuplj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 smanjenje gustine tkiva se manifestuje </a:t>
            </a:r>
            <a:r>
              <a:rPr b="1" lang="sr-Latn-CS" sz="1800" spc="-1" strike="noStrike">
                <a:solidFill>
                  <a:srgbClr val="e3ebf1"/>
                </a:solidFill>
                <a:latin typeface="Arial"/>
              </a:rPr>
              <a:t>rasvetljenjem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koje je oštro ili </a:t>
            </a:r>
            <a:r>
              <a:rPr b="1" lang="sr-Latn-CS" sz="1800" spc="-1" strike="noStrike">
                <a:solidFill>
                  <a:srgbClr val="e3ebf1"/>
                </a:solidFill>
                <a:latin typeface="Arial"/>
              </a:rPr>
              <a:t>neoštro ograničeno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od okol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9" descr="Pit-and-Fissure-Caries-GIF"/>
          <p:cNvPicPr/>
          <p:nvPr/>
        </p:nvPicPr>
        <p:blipFill>
          <a:blip r:embed="rId1"/>
          <a:stretch/>
        </p:blipFill>
        <p:spPr>
          <a:xfrm>
            <a:off x="6012000" y="620640"/>
            <a:ext cx="1465200" cy="266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150px-Interproximaldecayfiltered08-16-2006"/>
          <p:cNvPicPr/>
          <p:nvPr/>
        </p:nvPicPr>
        <p:blipFill>
          <a:blip r:embed="rId2"/>
          <a:stretch/>
        </p:blipFill>
        <p:spPr>
          <a:xfrm>
            <a:off x="1692360" y="1125360"/>
            <a:ext cx="2879640" cy="179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1280" y="3429000"/>
            <a:ext cx="807552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Krunice zu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ovršini sa koje polaz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- 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bukaln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, 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oral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- 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okluzaln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može da se previdi prekrivanjem lezije tamninom 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kvržica zub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- 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aproksimalna površin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klinički dugo nezapaž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195280" cy="30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Picture 11" descr=""/>
          <p:cNvPicPr/>
          <p:nvPr/>
        </p:nvPicPr>
        <p:blipFill>
          <a:blip r:embed="rId2"/>
          <a:srcRect l="2202" t="0" r="0" b="3483"/>
          <a:stretch/>
        </p:blipFill>
        <p:spPr>
          <a:xfrm>
            <a:off x="971640" y="907920"/>
            <a:ext cx="4390920" cy="21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ema postranstvu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- 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superficialis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lokalizovan u gleđi, rasvetljenje oštre kon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- 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medi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lezija dublje prodire u dentin i cement neoštro ograničena i slojem zdravog odvojena od pulp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- 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profund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lezija neoštre konture u bliskom kontaktu ali jasno odvojena od zubne duplj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- 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profunda complicat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kariozna lezija komunicira sa zubnom duplj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0" b="7983"/>
          <a:stretch/>
        </p:blipFill>
        <p:spPr>
          <a:xfrm>
            <a:off x="5945040" y="260280"/>
            <a:ext cx="274500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275904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3370320" y="260280"/>
            <a:ext cx="243684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Vrata zu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slično aproksimalnom karijesu može najpre biti zapažen na retrokoronarnim radiogramima, naročito ako je lokalizacija ispod ging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Dif.Dg.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gleđno-cementni prelaz, koji je obostrano i difuzno 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asvetljenj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5226120" y="260280"/>
            <a:ext cx="2946240" cy="331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Picture 6" descr=""/>
          <p:cNvPicPr/>
          <p:nvPr/>
        </p:nvPicPr>
        <p:blipFill>
          <a:blip r:embed="rId2"/>
          <a:srcRect l="0" t="0" r="0" b="3188"/>
          <a:stretch/>
        </p:blipFill>
        <p:spPr>
          <a:xfrm>
            <a:off x="2411280" y="260280"/>
            <a:ext cx="2637000" cy="28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Korena zu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videti tek na retroalveolarnim radiogramima, u uslovima normalnog odnosa korena i alveolarnog nastavk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Dif.Dg.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spoljašnja bočna resorpcija korena je rastapanje cementa koja je polukružnog oblika i oštro ograničena usled pritiska neizniklog zuba, odontogenog tu, ciste, i s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rcRect l="0" t="0" r="0" b="3199"/>
          <a:stretch/>
        </p:blipFill>
        <p:spPr>
          <a:xfrm>
            <a:off x="5292720" y="260280"/>
            <a:ext cx="322416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439092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71640" y="907560"/>
            <a:ext cx="396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e3ebf1"/>
                </a:solidFill>
                <a:latin typeface="Arial"/>
              </a:rPr>
              <a:t>Primar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lezija lokalizovana na do tada intaktnom zubu i nije u neposrednoj vezi sa stomatološkim rado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e3ebf1"/>
                </a:solidFill>
                <a:latin typeface="Arial"/>
              </a:rPr>
              <a:t>Sekundar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kariozna lezija koja se nalazi uz privremeni ili stalni dentalni ispun, protetsku krunicu, ili neku drugu stom. nadoknad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5292720" y="260280"/>
            <a:ext cx="210168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Picture 8" descr="ortopan 2"/>
          <p:cNvPicPr/>
          <p:nvPr/>
        </p:nvPicPr>
        <p:blipFill>
          <a:blip r:embed="rId2"/>
          <a:srcRect l="51501" t="25360" r="22116" b="2157"/>
          <a:stretch/>
        </p:blipFill>
        <p:spPr>
          <a:xfrm>
            <a:off x="5292720" y="3284640"/>
            <a:ext cx="2305080" cy="28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66ccff"/>
                </a:solidFill>
                <a:latin typeface="Arial"/>
              </a:rPr>
              <a:t>Zapaljenja periodoncijuma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684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Uzroc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zubni karijes, ekstrakcija zuba, (ređe) traume vilica, 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hematogene infekcije iz udaljenih žariš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odukti nekroze zubne pulpe i infektivni agensi mogu prodirati u periapikalno tkivo. Od odnosa virulencije mikroorganizama 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             i odbrambenih snaga organizma zavisi dalji razvitak proce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Akutni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osteitis, abs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Hronični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periapikalni granulom, radikularna cis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parodontit"/>
          <p:cNvPicPr/>
          <p:nvPr/>
        </p:nvPicPr>
        <p:blipFill>
          <a:blip r:embed="rId1"/>
          <a:stretch/>
        </p:blipFill>
        <p:spPr>
          <a:xfrm>
            <a:off x="6012000" y="3789360"/>
            <a:ext cx="2571480" cy="247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Apikalni periodontitis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Ac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zapaljenska reakcija periodontalnog li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bakterije iz korenog kanala, traumatskim putem iz spoljašnje sredine, trauma zuba, visoka plomba koja remeti oluziju, strano telo utisnuto između zuba,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u predelu vrha korena neznatno proširenje periodontalne lini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1" descr=""/>
          <p:cNvPicPr/>
          <p:nvPr/>
        </p:nvPicPr>
        <p:blipFill>
          <a:blip r:embed="rId1"/>
          <a:srcRect l="0" t="0" r="0" b="741"/>
          <a:stretch/>
        </p:blipFill>
        <p:spPr>
          <a:xfrm>
            <a:off x="826920" y="1600200"/>
            <a:ext cx="3600720" cy="4492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4" name="Rectangle 12"/>
          <p:cNvSpPr/>
          <p:nvPr/>
        </p:nvSpPr>
        <p:spPr>
          <a:xfrm>
            <a:off x="82908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Ch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sekvela akutnog zapaljenja, dugotrajna slaba inflamatorna reakcija,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oširenje periodontalne linije, povećana transparentnost kosti oko korena zub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52908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Rectangle 8"/>
          <p:cNvSpPr/>
          <p:nvPr/>
        </p:nvSpPr>
        <p:spPr>
          <a:xfrm>
            <a:off x="902160" y="5877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66ccff"/>
                </a:solidFill>
                <a:latin typeface="Arial"/>
              </a:rPr>
              <a:t>Parodontopatije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79214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Oboljenje potpornog aparata zuba (gingive, alveolarne kosti, cementa korena zuba i periodoncijum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75% odraslih boluj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40% starijih od 50 g. ima izražene znake zapaljenj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8" descr="parodontopatija2"/>
          <p:cNvPicPr/>
          <p:nvPr/>
        </p:nvPicPr>
        <p:blipFill>
          <a:blip r:embed="rId1"/>
          <a:stretch/>
        </p:blipFill>
        <p:spPr>
          <a:xfrm>
            <a:off x="1476360" y="3860640"/>
            <a:ext cx="1800360" cy="156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Picture 10" descr="parodontopatija1"/>
          <p:cNvPicPr/>
          <p:nvPr/>
        </p:nvPicPr>
        <p:blipFill>
          <a:blip r:embed="rId2"/>
          <a:stretch/>
        </p:blipFill>
        <p:spPr>
          <a:xfrm>
            <a:off x="3348000" y="3860640"/>
            <a:ext cx="1728720" cy="15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Picture 12" descr="parodontopatija5"/>
          <p:cNvPicPr/>
          <p:nvPr/>
        </p:nvPicPr>
        <p:blipFill>
          <a:blip r:embed="rId3"/>
          <a:stretch/>
        </p:blipFill>
        <p:spPr>
          <a:xfrm>
            <a:off x="5148360" y="3860640"/>
            <a:ext cx="2160360" cy="158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Rectangle 13"/>
          <p:cNvSpPr/>
          <p:nvPr/>
        </p:nvSpPr>
        <p:spPr>
          <a:xfrm>
            <a:off x="2486160" y="544500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blag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srednje tešk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teš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Periapikalni absces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Ac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astaje kada periapikalni proces zadobije supurativnu formu (nekroza i stvaranje gnoja) unutar periodontalnog proce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Inicijalna faza nema znakova promene na kost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azvojna faza prošireniji periodontalni prostor i povećana transparentnost k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6007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Rectangle 7"/>
          <p:cNvSpPr/>
          <p:nvPr/>
        </p:nvSpPr>
        <p:spPr>
          <a:xfrm>
            <a:off x="90216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Ch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sledi kao nastavak akutnog. Ukoliko nije lečen formira se fistulozni kanal kojim se gnoj drenira prema oralnoj mukozi ili kož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oko korena zuba neoštro ograničena zona povećane transparentn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ojačana skleroza okolne k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Fistulozni kanal trakasto rasvetljenje od periodoncijuma put površine k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4038480" cy="290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Rectangle 8"/>
          <p:cNvSpPr/>
          <p:nvPr/>
        </p:nvSpPr>
        <p:spPr>
          <a:xfrm>
            <a:off x="541800" y="4941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Periapikalni granulom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6007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je najčešći odgovor periapikalnog tkiva na hronična infekcija koja se prolongi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Granulomatozno tkivo je okruženo kapsulom (unutrašnji sloj od rastresitog veziva i krv.sudova; spoljašnji sloj fibrozni nastavlja na periodontalni lig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Do 1,6 cm ovalno rasvetljenja periapikalne kosti, oštro ograničeno sa prekidom lamine d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Radikularna cista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astaje iz periapikalnog granuloma proliferacijom epitelnih ćel. koje degenerišu i stvaraju šupljinu ispunjenu tečnošću. (M. maxil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Oko apeksa ili akcesornog kana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Ovalna, oštro ograničena, oivičena linijskom senkom hiperostotske reakci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1,6 - 10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176720" cy="271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68a4b"/>
                </a:solidFill>
                <a:latin typeface="Arial"/>
              </a:rPr>
              <a:t>maxill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03848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403848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887640" cy="253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Rectangle 8"/>
          <p:cNvSpPr/>
          <p:nvPr/>
        </p:nvSpPr>
        <p:spPr>
          <a:xfrm>
            <a:off x="3710520" y="306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21, 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8246160" y="37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1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4038480" cy="290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468a4b"/>
                </a:solidFill>
                <a:latin typeface="Arial"/>
              </a:rPr>
              <a:t>mandibula</a:t>
            </a:r>
            <a:r>
              <a:rPr b="0" i="1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457416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6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348624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Rectangle 17"/>
          <p:cNvSpPr/>
          <p:nvPr/>
        </p:nvSpPr>
        <p:spPr>
          <a:xfrm>
            <a:off x="4505040" y="5445000"/>
            <a:ext cx="24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izvađen zaostali ko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4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337500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71600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Inficiran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eoštro ograničen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eriodontalna membrana prošir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Dif.D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ameloblastom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gigantocelularni granulom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keratoc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0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388944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Rectangle 12"/>
          <p:cNvSpPr/>
          <p:nvPr/>
        </p:nvSpPr>
        <p:spPr>
          <a:xfrm>
            <a:off x="399780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3566160" y="5877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66ccff"/>
                </a:solidFill>
                <a:latin typeface="Arial"/>
              </a:rPr>
              <a:t>Stečeni defekti na zubima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tric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braz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Eroz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Resorpc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ekundarni dent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ulpoli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kleroza pul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Hipercemento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Resorpcija alveolarne k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Atricija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rcRect l="0" t="0" r="0" b="2326"/>
          <a:stretch/>
        </p:blipFill>
        <p:spPr>
          <a:xfrm>
            <a:off x="826920" y="1600200"/>
            <a:ext cx="3600720" cy="398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trošenje zuba kao posledica okluzalnog kontakta među zubima u toku fiziološkog žvakanj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Zahvata nekoliko susednih zuba, počinje trošenjem gleđi i otkrivanjem dentina, skleroza na zidovima zubne duplje (sek. dentin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može biti praćen gubitkom alveolarne kosti, proširenjem periodontalne linije i hipercementozo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Abrazija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efiziološko trošenje zubnog tkiva (neadekvatno pranje četkicom, konac, čačkal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olumesečasti defekti u nivou vrata na aproksimalnim površinama jače na distalnoj u odnosu na mezijalnu stran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9" descr="200px-Toothbrush_20050716_004"/>
          <p:cNvPicPr/>
          <p:nvPr/>
        </p:nvPicPr>
        <p:blipFill>
          <a:blip r:embed="rId1"/>
          <a:stretch/>
        </p:blipFill>
        <p:spPr>
          <a:xfrm>
            <a:off x="611280" y="3645000"/>
            <a:ext cx="2232000" cy="167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Picture 10" descr="180px-Dental_floss_(whole)"/>
          <p:cNvPicPr/>
          <p:nvPr/>
        </p:nvPicPr>
        <p:blipFill>
          <a:blip r:embed="rId2"/>
          <a:stretch/>
        </p:blipFill>
        <p:spPr>
          <a:xfrm>
            <a:off x="1692360" y="1773360"/>
            <a:ext cx="228600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pubertetski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Javlja se za vreme i neposredno posle nicanja prvih zub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ani gubitak zuba (do 2g.) koji može da zahvati i stalnu denticij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edak; Ž; genetski osnov i serumska antitela (na Capnocytophaga sputigena, Eikenela corrode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Lokalizovana 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ograničeni i slabije izraženi kl.simptom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Destrukcija alveolarne kosti samo oko pojedinih zub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Generalizovana 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extremno izraženo zapaljenje marginalne i pripojne gingive. Koja razvojem bolesti spontano povlači ka apeksim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ogresivna destrukcija alveolarne kosti, resorpcija korenov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0" descr="Zahnfleischentzuendung"/>
          <p:cNvPicPr/>
          <p:nvPr/>
        </p:nvPicPr>
        <p:blipFill>
          <a:blip r:embed="rId1"/>
          <a:stretch/>
        </p:blipFill>
        <p:spPr>
          <a:xfrm>
            <a:off x="2484360" y="4653000"/>
            <a:ext cx="1943280" cy="133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Picture 11" descr="Zahnfleischbluten"/>
          <p:cNvPicPr/>
          <p:nvPr/>
        </p:nvPicPr>
        <p:blipFill>
          <a:blip r:embed="rId2"/>
          <a:stretch/>
        </p:blipFill>
        <p:spPr>
          <a:xfrm>
            <a:off x="395280" y="4653000"/>
            <a:ext cx="1944720" cy="133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Erozija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Gubitak supstance zuba dejstvom najčešće jakih kiselina (učestalo povraćan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Zubi glatki i slajni najčešće na palatinalnim stranama zuba u gornjoj vilic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erozije kao defekti oštrih kon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erozija kis"/>
          <p:cNvPicPr/>
          <p:nvPr/>
        </p:nvPicPr>
        <p:blipFill>
          <a:blip r:embed="rId1"/>
          <a:stretch/>
        </p:blipFill>
        <p:spPr>
          <a:xfrm>
            <a:off x="1332000" y="1628640"/>
            <a:ext cx="216540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Resorpcija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539640" y="3500280"/>
            <a:ext cx="2338560" cy="298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Započinje vaskularnim promenama sa stvaranjem granulacionog tkiva i transformacijom makrofaga u gigantske odontoklas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Inicirani su acc. traumom, pulpotomijom invaginaciom gleđi, polipozom pulp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Spoljašnje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iz pravca pul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Unutrašnj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iz pravca zubne duplje ili korena, ovalno rasvetljenj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2"/>
          <a:srcRect l="0" t="0" r="0" b="3965"/>
          <a:stretch/>
        </p:blipFill>
        <p:spPr>
          <a:xfrm>
            <a:off x="2290680" y="1484280"/>
            <a:ext cx="213696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Sekundarni dentin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Deponuje se u zubnoj duplji nakon završetka stvaranja primarnog denti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astaje dejstvom stimulusa prilikom žvakanja ili blagim trauma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edukcija veličine zubne duplje ili korenog kanala (lok., difusno), vizuelno se ne razlikuje od prom.denti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Pulpoliti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Ognjišta kalcifikacije u pulpi nepoznatog uzroka, kod stariji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azličitog oblika, solitarna ili multipla, 2-3 mm, oštro ograniče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Skleroza pulpe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difuzno zasenčenje unutar zubne duplje nepoznatog uzrok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(10-20 i 50-70 g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Hipercementoza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71640" y="4508280"/>
            <a:ext cx="706752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ekomerno nagomilavanje cementa oko dela ili čitavog korena zub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ili blago nepravilna akumulacija cementa na apexu kore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Lamina dura i periodontalna linija očuv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egresivna promena koja se manifestuje prekomernim deponovanjem cementa na korenu zub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Uzroci:   periapikalne infekcije, povećan okluzalni pritisak, Padžetova bol., hiperpituitariza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60036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2046240" cy="28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403848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ati bezubost kada nema dejstva okluzalnih sila koja se prenose putem vlakana periodonciju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Lokalna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bezubost jednog zuba, levkasta resorpcija alveolarnog greb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Difuz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veća bezubost, kortikalna lamina očuvana ali jako tank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a mandibuli bradni otvor može da leži na gornjoj površini alv. nastavk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0e500"/>
                </a:solidFill>
                <a:latin typeface="Arial"/>
              </a:rPr>
              <a:t>Resorpcija alveolarne kosti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4932360" y="3068640"/>
            <a:ext cx="2362320" cy="266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1" name="Picture 3" descr="I Neurology 1"/>
          <p:cNvPicPr/>
          <p:nvPr/>
        </p:nvPicPr>
        <p:blipFill>
          <a:blip r:embed="rId2"/>
          <a:stretch/>
        </p:blipFill>
        <p:spPr>
          <a:xfrm>
            <a:off x="2050920" y="3068640"/>
            <a:ext cx="2406960" cy="2666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2" name="Picture 4" descr="lopta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4427640" y="1125360"/>
            <a:ext cx="7189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juvenilni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U mladih, znaci zapaljenja minimalno izraženi sa brzom destrukciom alveolarne k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Lokalizovana 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ovećan nivo pojedinih hormona u gingivalnoj tečn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Zahvaćeni sekutići i prvi kutnjaci, džepovi do 10 mm.</a:t>
            </a: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Generalizovana 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kod starijih adolescenata, jaki znaci zapaljenja i zahvata sve zube, generalizovana i znatna destrukcija k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9" descr="parodontopatija4"/>
          <p:cNvPicPr/>
          <p:nvPr/>
        </p:nvPicPr>
        <p:blipFill>
          <a:blip r:embed="rId1"/>
          <a:stretch/>
        </p:blipFill>
        <p:spPr>
          <a:xfrm>
            <a:off x="1332000" y="3213000"/>
            <a:ext cx="2448000" cy="21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rzo napredujući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astavak juvenilnog kod osoba 20-35 g. Visok nivo antitela na G - (Actinobacillus, Bacerioid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brzo napredujući vertikalni gubitak k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parodontopatija3"/>
          <p:cNvPicPr/>
          <p:nvPr/>
        </p:nvPicPr>
        <p:blipFill>
          <a:blip r:embed="rId1"/>
          <a:stretch/>
        </p:blipFill>
        <p:spPr>
          <a:xfrm>
            <a:off x="1692360" y="1844640"/>
            <a:ext cx="2016000" cy="177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dultni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oliferacija marginalne gingive, koštani džepovi i gubitak normalnog gingivalnog pripoja, nivo alveolarne kosti ispod račve korenova, migracija zuba sa stvaranjem dijastema, parodontalni apsces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1 fa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dominiraju kl. znaci hiperemija i krvarenje na dod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Rtg. subgingivalni konkremen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9" descr="fotografije-za-tekstove-recesija2"/>
          <p:cNvPicPr/>
          <p:nvPr/>
        </p:nvPicPr>
        <p:blipFill>
          <a:blip r:embed="rId1"/>
          <a:stretch/>
        </p:blipFill>
        <p:spPr>
          <a:xfrm>
            <a:off x="826920" y="1628640"/>
            <a:ext cx="3384720" cy="232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2. Bla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ogresivnije zapaljenje gingive koje zahvata dublje slojev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gingivalni džepovi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blago zaravnjenje interalveolarnih septi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diskretno proširenje periodontalne linije uz vrat zub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7" descr="ortopan 3"/>
          <p:cNvPicPr/>
          <p:nvPr/>
        </p:nvPicPr>
        <p:blipFill>
          <a:blip r:embed="rId1"/>
          <a:srcRect l="54365" t="14509" r="11211" b="4840"/>
          <a:stretch/>
        </p:blipFill>
        <p:spPr>
          <a:xfrm>
            <a:off x="611280" y="2565360"/>
            <a:ext cx="35938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8" descr="rtg3"/>
          <p:cNvPicPr/>
          <p:nvPr/>
        </p:nvPicPr>
        <p:blipFill>
          <a:blip r:embed="rId2"/>
          <a:stretch/>
        </p:blipFill>
        <p:spPr>
          <a:xfrm>
            <a:off x="971640" y="404640"/>
            <a:ext cx="3457440" cy="26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3. Umere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Izražena resorpcija ineralveolarnih septi i gubitak kortikalnih lamina u njim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roširenje periodontalne linij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koštani džepov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7" descr="paradontoza"/>
          <p:cNvPicPr/>
          <p:nvPr/>
        </p:nvPicPr>
        <p:blipFill>
          <a:blip r:embed="rId1"/>
          <a:srcRect l="2015" t="2612" r="1440" b="3483"/>
          <a:stretch/>
        </p:blipFill>
        <p:spPr>
          <a:xfrm>
            <a:off x="611280" y="549360"/>
            <a:ext cx="3889440" cy="29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" name="Picture 8" descr="paradont 02"/>
          <p:cNvPicPr/>
          <p:nvPr/>
        </p:nvPicPr>
        <p:blipFill>
          <a:blip r:embed="rId2">
            <a:lum bright="6000"/>
          </a:blip>
          <a:srcRect l="2178" t="5427" r="2099" b="2764"/>
          <a:stretch/>
        </p:blipFill>
        <p:spPr>
          <a:xfrm>
            <a:off x="611280" y="3500280"/>
            <a:ext cx="3889440" cy="29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971640" y="3789360"/>
            <a:ext cx="7200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e3ebf1"/>
                </a:solidFill>
                <a:uFillTx/>
                <a:latin typeface="Arial"/>
              </a:rPr>
              <a:t>4. Progresiv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ivo gingive u visini sredine korenov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nivo alveolarne kosti u apikalnoj polovini korenov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bifurkacija korenova izvan alveolarne kosti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lamina kortikalis razoren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eriodontalna linija proširen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e3ebf1"/>
                </a:solidFill>
                <a:latin typeface="Arial"/>
              </a:rPr>
              <a:t>povećana transparentnost kosti (preko 30%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0072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8:46:26Z</dcterms:created>
  <dc:creator>Sony</dc:creator>
  <dc:description/>
  <dc:language>en-US</dc:language>
  <cp:lastModifiedBy>Milan Mijailovic</cp:lastModifiedBy>
  <dcterms:modified xsi:type="dcterms:W3CDTF">2024-08-29T09:10:57Z</dcterms:modified>
  <cp:revision>46</cp:revision>
  <dc:subject/>
  <dc:title>Bolesti zuba</dc:title>
</cp:coreProperties>
</file>